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412-B352-4679-A58A-8248336D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123F-EA83-4516-B490-06361870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00FA-DD22-42EC-AB98-144E23A2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F403-7AC3-474F-90EE-A0654B91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415-D5FF-463F-A17C-A1D189CC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64A7-FE63-4713-8737-5A57B84F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FEF-C34C-46E0-998C-FCA12F96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5D18-4371-4BAD-AEA7-6A09769E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FF0C-DFCE-49BF-BDDE-9A6C782D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09D5-F210-4288-8F12-FAB15E79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295-5B72-458A-826E-595A0518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7B7D-770D-41D9-9544-8BDD1A91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003300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003300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00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00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00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5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003300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003300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00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00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79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12085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2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3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2DA0-D2EB-4ECF-87EA-1F296B828A3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31532;1&#31456;%20%20%20%20&#22522;&#30784;&#30693;&#35782;.ppt#1. &#31532;1&#31456;    &#22522;&#30784;&#30693;&#35782;" TargetMode="External"/><Relationship Id="rId2" Type="http://schemas.openxmlformats.org/officeDocument/2006/relationships/hyperlink" Target="file:///&#31532;2&#31456;%20%20&#23547;&#22336;&#26041;&#24335;&#21644;&#25351;&#20196;&#31995;&#32479;.ppt#1. &#31532;2&#31456;  &#23547;&#22336;&#26041;&#24335;&#21644;&#25351;&#20196;&#31995;&#32479;" TargetMode="External"/><Relationship Id="rId3" Type="http://schemas.openxmlformats.org/officeDocument/2006/relationships/hyperlink" Target="file:///&#31532;3&#31456;%20%20&#23439;&#27719;&#32534;&#35821;&#35328;.ppt" TargetMode="External"/><Relationship Id="rId4" Type="http://schemas.openxmlformats.org/officeDocument/2006/relationships/hyperlink" Target="file:///&#31532;4&#31456;%20%20&#31243;&#24207;&#35774;&#35745;&#26041;&#27861;.ppt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华文新魏"/>
              </a:rPr>
              <a:t>汇编语言程序设计</a:t>
            </a: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133720" y="2666520"/>
            <a:ext cx="6324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　编 ：      宋锦河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副主编 ：      曾长军　李珍香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                    陈兴无　王泽生　　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　审：       黄维通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5671080" y="59436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中国水利水电出版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99920" y="50760"/>
            <a:ext cx="26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世纪高职高专新概念教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《汇编语言程序设计》</a:t>
            </a: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361960" y="2286000"/>
            <a:ext cx="5715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00000"/>
                </a:solidFill>
                <a:uFillTx/>
                <a:latin typeface="华文楷体"/>
                <a:ea typeface="华文楷体"/>
                <a:hlinkClick r:id="rId1"/>
              </a:rPr>
              <a:t>第1章  基础知识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00000"/>
                </a:solidFill>
                <a:uFillTx/>
                <a:latin typeface="华文楷体"/>
                <a:ea typeface="华文楷体"/>
                <a:hlinkClick r:id="rId2"/>
              </a:rPr>
              <a:t>第2章  寻址方式和指令系统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00000"/>
                </a:solidFill>
                <a:uFillTx/>
                <a:latin typeface="华文楷体"/>
                <a:ea typeface="华文楷体"/>
                <a:hlinkClick r:id="rId3"/>
              </a:rPr>
              <a:t>第3章  宏汇编语言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00000"/>
                </a:solidFill>
                <a:uFillTx/>
                <a:latin typeface="华文楷体"/>
                <a:ea typeface="华文楷体"/>
                <a:hlinkClick r:id="rId4"/>
              </a:rPr>
              <a:t>第4章  程序设计方法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章  输入输出和中断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章  应用系统开发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531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黑体"/>
              </a:rPr>
              <a:t>第</a:t>
            </a: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Arial"/>
              </a:rPr>
              <a:t>1</a:t>
            </a: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黑体"/>
              </a:rPr>
              <a:t>章</a:t>
            </a: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Arial"/>
              </a:rPr>
              <a:t>    </a:t>
            </a: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黑体"/>
              </a:rPr>
              <a:t>基础知识</a:t>
            </a: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80720" y="22860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.1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汇编语言及特点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.2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数据表示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.3    8086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寄存器组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.4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存储器物理地址的形成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13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ccffff"/>
                </a:solidFill>
                <a:latin typeface="Arial"/>
                <a:ea typeface="Arial"/>
              </a:rPr>
              <a:t>2</a:t>
            </a:r>
            <a:r>
              <a:rPr b="1" lang="zh-CN" sz="4000" spc="-1" strike="noStrike">
                <a:solidFill>
                  <a:srgbClr val="ccffff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ccffff"/>
                </a:solidFill>
                <a:latin typeface="Arial"/>
                <a:ea typeface="Arial"/>
              </a:rPr>
              <a:t>  </a:t>
            </a:r>
            <a:r>
              <a:rPr b="1" lang="zh-CN" sz="4000" spc="-1" strike="noStrike">
                <a:solidFill>
                  <a:srgbClr val="ccffff"/>
                </a:solidFill>
                <a:latin typeface="Arial"/>
                <a:ea typeface="黑体"/>
              </a:rPr>
              <a:t>寻址方式和指令系统</a:t>
            </a:r>
            <a:endParaRPr b="1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743200" y="22096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寻址方式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数据传送类指令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算术运算类指令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位操作类指令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5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串操作类指令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6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控制转移类指令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7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处理机控制类指令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531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黑体"/>
              </a:rPr>
              <a:t>第</a:t>
            </a: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Arial"/>
              </a:rPr>
              <a:t>3</a:t>
            </a: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黑体"/>
              </a:rPr>
              <a:t>章</a:t>
            </a: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Arial"/>
              </a:rPr>
              <a:t>  </a:t>
            </a: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黑体"/>
              </a:rPr>
              <a:t>宏汇编语言</a:t>
            </a: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90560" y="259056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1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宏汇编语言格式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2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汇编语句表达式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3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伪指令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4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DO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系统功能调用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5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综合举例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683280"/>
            <a:ext cx="6476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 Black"/>
                <a:ea typeface="黑体"/>
              </a:rPr>
              <a:t>第</a:t>
            </a:r>
            <a:r>
              <a:rPr b="0" lang="zh-CN" sz="4400" spc="-1" strike="noStrike">
                <a:solidFill>
                  <a:srgbClr val="ccffff"/>
                </a:solidFill>
                <a:latin typeface="Arial Black"/>
                <a:ea typeface="黑体"/>
              </a:rPr>
              <a:t>4</a:t>
            </a:r>
            <a:r>
              <a:rPr b="0" lang="zh-CN" sz="4400" spc="-1" strike="noStrike">
                <a:solidFill>
                  <a:srgbClr val="ccffff"/>
                </a:solidFill>
                <a:latin typeface="Arial Black"/>
                <a:ea typeface="黑体"/>
              </a:rPr>
              <a:t>章  程序设计方法</a:t>
            </a: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362320" y="20574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顺序程序设计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分支程序设计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循环程序设计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5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子程序设计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6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模块化程序设计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7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级汇编语言技术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81080" y="606960"/>
            <a:ext cx="6019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第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章  输入输出和中断</a:t>
            </a: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09680" y="2437920"/>
            <a:ext cx="5757840" cy="29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5.1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设备数据传送方式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5.2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断传送方式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5.3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IO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断调用方式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5.4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综合举例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606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黑体"/>
              </a:rPr>
              <a:t>第</a:t>
            </a: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黑体"/>
              </a:rPr>
              <a:t>6</a:t>
            </a: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黑体"/>
              </a:rPr>
              <a:t>章  应用系统开发</a:t>
            </a: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828800" y="2819520"/>
            <a:ext cx="6324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81b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81b7"/>
                </a:solidFill>
                <a:latin typeface="Arial Black"/>
              </a:rPr>
              <a:t>﹡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6.1 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汽车动画程序开发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2181b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81b7"/>
                </a:solidFill>
                <a:latin typeface="Arial Black"/>
              </a:rPr>
              <a:t>﹡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6.2 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发声系统程序开发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0" y="2819520"/>
            <a:ext cx="5638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欢迎您使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《汇编语言程序设计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1674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BatangChe"/>
                <a:ea typeface="BatangChe"/>
              </a:rPr>
              <a:t>Thank you very much !</a:t>
            </a: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671080" y="59436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中国水利水电出版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endshow"/>
          </p:cNvPr>
          <p:cNvSpPr/>
          <p:nvPr/>
        </p:nvSpPr>
        <p:spPr>
          <a:xfrm>
            <a:off x="1752480" y="5715000"/>
            <a:ext cx="1752840" cy="83808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结  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8:48:37Z</dcterms:created>
  <dc:creator>新人电脑</dc:creator>
  <dc:description/>
  <dc:language>en-US</dc:language>
  <cp:lastModifiedBy>Administrator</cp:lastModifiedBy>
  <dcterms:modified xsi:type="dcterms:W3CDTF">2001-11-14T07:33:34Z</dcterms:modified>
  <cp:revision>10</cp:revision>
  <dc:subject/>
  <dc:title>第1章    基础知识</dc:title>
</cp:coreProperties>
</file>